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CD7-5A60-4ADF-B6E5-2893AE7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8DB-5790-448B-B955-6A6C84B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3BF-9921-4E31-A1E9-4233B72E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5E0-E8B3-4783-A33E-82475CE1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05B-0E89-4C0C-8B25-9FF0F92D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087-88ED-4DEF-B0E1-8156C18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831-9FC1-4797-9D90-DA75DCF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A04-4D8C-4B1D-A4A2-BAF9283A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279-17C0-4DF0-9CE0-A1AD81A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5F8-506E-4D43-B8EB-5652C40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ECE-7B68-459D-A790-A38CDDF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6C7-3AE3-436D-868C-9538B1A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6278-7124-4F29-B3B3-631CA3BA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1276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2b00"/>
                </a:solidFill>
                <a:latin typeface="Comic Sans MS"/>
              </a:rPr>
              <a:t>The Unanswerable Argument for Suff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0" b="5480"/>
          <a:stretch/>
        </p:blipFill>
        <p:spPr>
          <a:xfrm>
            <a:off x="2209680" y="1066680"/>
            <a:ext cx="5445360" cy="5486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come Tax / Federal Reserve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mendment – graduated tax 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ed at 1% and rose to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= 20% an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deral Reser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 divided into 12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district has a federal reserv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 currency, loan money to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son’s Foreign Poli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s 710-7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x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gend of Pancho 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ld War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Rockwell"/>
              </a:rPr>
              <a:t>The Mexican Revolution: 1910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ctoriano Huerta seizes control of Mex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uts Madero in prison where he wa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nustiano Carranza, Pancho Villa, Emilian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pata, and Alvaro Obregon fought against H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U.S. also got involved by occupy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acruz and Huerta fled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ntually Carranza would gain power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Rockwell"/>
              </a:rPr>
              <a:t>Wilson’s “Moral Diplomac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27040" y="1447920"/>
            <a:ext cx="374004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572000" y="167652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U. S. shou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 the consc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world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read democrac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mote peac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emn coloni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Rockwell"/>
              </a:rPr>
              <a:t>Searching for </a:t>
            </a:r>
            <a:r>
              <a:rPr b="1" i="1" lang="en-US" sz="4400" spc="-1" strike="noStrike">
                <a:solidFill>
                  <a:srgbClr val="000099"/>
                </a:solidFill>
                <a:latin typeface="Rockwell"/>
              </a:rPr>
              <a:t>Band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7150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General John J. Pershing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Pancho</a:t>
            </a:r>
            <a:br>
              <a:rPr sz="2600"/>
            </a:b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Vill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n 191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6000"/>
          </a:blip>
          <a:srcRect l="2418" t="1645" r="906" b="1130"/>
          <a:stretch/>
        </p:blipFill>
        <p:spPr>
          <a:xfrm>
            <a:off x="1523880" y="1066680"/>
            <a:ext cx="6096240" cy="44960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7632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e02b00"/>
                </a:solidFill>
                <a:latin typeface="Comic Sans MS"/>
              </a:rPr>
              <a:t>Never Again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ft Abandons Support for Women’s Suf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235" b="3125"/>
          <a:stretch/>
        </p:blipFill>
        <p:spPr>
          <a:xfrm>
            <a:off x="3124080" y="990720"/>
            <a:ext cx="4233960" cy="4952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920" y="979560"/>
            <a:ext cx="2895480" cy="467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TR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&amp;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Women’s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Suff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2b00"/>
                </a:solidFill>
                <a:latin typeface="Comic Sans MS"/>
              </a:rPr>
              <a:t>The Militant Recr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lum contrast="6000"/>
          </a:blip>
          <a:srcRect l="8331" t="2961" r="8331" b="9770"/>
          <a:stretch/>
        </p:blipFill>
        <p:spPr>
          <a:xfrm>
            <a:off x="914400" y="228600"/>
            <a:ext cx="4235400" cy="6248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2b00"/>
                </a:solidFill>
                <a:latin typeface="Comic Sans MS"/>
              </a:rPr>
              <a:t>Trying to Catch the African Ameri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615" t="5701" r="4818" b="11616"/>
          <a:stretch/>
        </p:blipFill>
        <p:spPr>
          <a:xfrm>
            <a:off x="1981080" y="1295280"/>
            <a:ext cx="6553440" cy="5000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53352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2b00"/>
                </a:solidFill>
                <a:latin typeface="Comic Sans MS"/>
              </a:rPr>
              <a:t>1912 Bal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contrast="6000"/>
          </a:blip>
          <a:srcRect l="0" t="0" r="1506" b="2910"/>
          <a:stretch/>
        </p:blipFill>
        <p:spPr>
          <a:xfrm>
            <a:off x="1066680" y="2133720"/>
            <a:ext cx="716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5228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Elec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7391160" cy="397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52480" y="51055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912, 100,000 fewer people had voted for Wilson than had voted for Bryan in 19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1912 election marked the apogee of the Socialist movement in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549360"/>
            <a:ext cx="853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GOP Divided by Bull Moose</a:t>
            </a:r>
            <a:br>
              <a:rPr sz="4400"/>
            </a:b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Equals Democratic Vic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lum contrast="12000"/>
          </a:blip>
          <a:srcRect l="0" t="3086" r="5298" b="10430"/>
          <a:stretch/>
        </p:blipFill>
        <p:spPr>
          <a:xfrm>
            <a:off x="1523880" y="2666880"/>
            <a:ext cx="7315200" cy="2291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912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ed as the Election that changed the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ce of political and economic philoso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cratic – Laissez faire economics and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ublican – socially conservative, limited progressive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ive – activist welfa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.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fferson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wood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deral Reserve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yton-Anti Trust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12:24Z</dcterms:modified>
  <cp:revision>40</cp:revision>
  <dc:subject/>
  <dc:title>Slide 1</dc:title>
</cp:coreProperties>
</file>